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EBF8-1367-4CDD-B630-E274B62C2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8DA6-14E2-4F48-A6EB-2B1646F53C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74BF9D9-0ED3-44DC-9244-C7F0EFDFEA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7B54-C57E-465D-BC61-820B7A5F4F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3573-FF4D-461E-BCA3-84051F6414D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73AB-51E6-4115-A59B-E67B86AB92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CCBF-FC6D-40A5-9608-691A98802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371B-5761-43EA-B1C5-B9CCAC70B13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38A1-1D7E-4ACE-B63F-F6F22FEDC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D1DB-484D-449D-87DA-63501764F4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27DB-9560-46D0-B5C4-D3A35B48FC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D81E-2AC4-4FA0-9EA7-66EB0876DB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C396-A30E-4718-A9F1-44E9E00B8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5BE9-F099-4CE8-BBFF-E43CDCDCB7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048E-F3B8-44B1-8D07-0CF2F8164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EC6B-F0B8-4601-80F5-F41E8E31E5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3B40-BAD0-42E1-98BD-55223A09CBA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9BA7-CCD0-4775-B139-DFAC7FCC7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50C3-6393-47CE-8983-801B8F5545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F77C-A90C-415A-9DB3-D41587834D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091B-CF4A-4F0B-B23B-0AD5B524C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C5AA-63AB-45F4-9C9F-7D97A916D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3F18-4C16-4D68-9656-690218C27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22E67-7BA4-4808-B492-F0570D556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5F0F4-87AC-49F0-91E9-F6CB66AD6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E4FA6-A015-4FD7-82A0-180067386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FFA94-52FD-4709-B472-F052018C4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DD0-A252-46BA-AA6C-93AF524E31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993-3D3A-475B-BABD-DE01BAAEE0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477B-174F-4ECC-81D2-77725CF48F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D4F-7EE4-46A4-B21B-44D78C48D3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2BC-ED76-4B21-A1B9-FF2A2E7576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C63-B437-4247-A937-2D06EA3A29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E57-9BAB-4B6E-A6D8-1BE2224635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48682-931E-41C7-AC4D-602E5B25D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C033-14EA-47C7-A0F7-71B408DDB8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3552-D05B-462F-936F-4FC2FE391D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C09-0E51-43F4-AE55-0FDA71280C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882-7A96-4C02-A066-BC666DF036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9FC-5CD5-45EF-B264-5EAE3FD2DC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8A02E-835A-48FD-ADC0-26D1D5F65D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B4F71-01C5-4795-BF7C-36F553BCC2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0B737-3F78-4010-A9A2-F5103B5FEB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2009F-ECAE-40EC-B3F1-75B13A5056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D3655-457D-4F73-9247-635CC623AD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BE070-3CB5-4523-A4F5-0DE433EE17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DFF15-1625-48BD-86B1-B9DD1283BF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5A93E-2454-42BB-82EC-8704802E74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90BFD-C9F1-4C1B-B8E4-50348AFF77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75BA6-BAE5-4B4D-8F40-CDF8E42498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18A2A-2617-4191-91C1-9C007B8840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188E1-81EE-40F2-A6E7-90DF93AA3D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CAF7C-B2DB-4982-A29C-29D489173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8FAC5-13D4-4369-BC07-0162FC166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A2533-4441-42ED-AB7C-05D8D80D6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C2FE8-914E-48E9-BD6D-450AEA287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8137F-1C37-454D-9125-9A1BB546C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8429C-1B47-430A-A1DE-3B5F436B0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FA46F-929D-4DD1-86A0-993780A20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352560"/>
            <a:ext cx="54100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44C3-39B1-479C-B27C-7717F5590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2645-7AE7-48E1-846F-AEB0C1B656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457200" y="6324120"/>
            <a:ext cx="6781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8000640" y="6324120"/>
            <a:ext cx="685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F41B-CE3F-4649-AE70-BBE17925C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74" name="Text Box 16"/>
          <p:cNvSpPr/>
          <p:nvPr/>
        </p:nvSpPr>
        <p:spPr>
          <a:xfrm>
            <a:off x="1639800" y="1803240"/>
            <a:ext cx="758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троль процессов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троль качества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чественных и полуколичественных анализов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 использовании традиционных контрол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577520"/>
            <a:ext cx="853452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йте 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кже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пробы пац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положительный и отрицательный контро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ите слабо положительный контроль для иммунологических процед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оложительный контроль, близкий к порогу чувстви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ите контроль, который проверит этап выд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C40D-36C7-4AA3-B831-258B56B3E1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ные штаммы для К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240" y="1231560"/>
            <a:ext cx="83818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алонные шт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штаммы, полученны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нозируемые реа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расители и сре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яют, что среды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ы и расход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териалы работают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4" descr="qc_bacteria"/>
          <p:cNvPicPr/>
          <p:nvPr/>
        </p:nvPicPr>
        <p:blipFill>
          <a:blip r:embed="rId1"/>
          <a:stretch/>
        </p:blipFill>
        <p:spPr>
          <a:xfrm>
            <a:off x="5638680" y="2286000"/>
            <a:ext cx="3200400" cy="2755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qc_growth_poor_growth_cdc"/>
          <p:cNvPicPr/>
          <p:nvPr/>
        </p:nvPicPr>
        <p:blipFill>
          <a:blip r:embed="rId2"/>
          <a:stretch/>
        </p:blipFill>
        <p:spPr>
          <a:xfrm>
            <a:off x="4800600" y="441972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280" name="Slide Number Placeholder 5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6D0F-3E17-48B5-9CA4-6D03F0CC97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1" name="Footer Placeholder 6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67464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точники для приобретения                      эталонных штамм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3520" y="2057400"/>
            <a:ext cx="815328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мериканская коллек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овых культ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циональная коллек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овых культ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ликобрит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ллекция Института Паст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ранц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FA9C-865E-45CF-BD3E-539A013297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552240"/>
            <a:ext cx="838188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4316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сители важны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–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заботьтесь о них!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5" descr="PICT0136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PICT0018"/>
          <p:cNvPicPr/>
          <p:nvPr/>
        </p:nvPicPr>
        <p:blipFill>
          <a:blip r:embed="rId2"/>
          <a:stretch/>
        </p:blipFill>
        <p:spPr>
          <a:xfrm>
            <a:off x="4952880" y="220968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0"/>
          <p:cNvSpPr/>
          <p:nvPr/>
        </p:nvSpPr>
        <p:spPr>
          <a:xfrm>
            <a:off x="5004000" y="525780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икакого внимания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660600" y="52578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Verdana"/>
              </a:rPr>
              <a:t>Постоянное внимани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8229600" y="64044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0538-AF83-45C0-B909-02D165174A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красителям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меняйте установленные процедуры для приготовления и раствор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икетка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держание, концентрация, даты приготовления и начала использования, срок годности, инициа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8F92-8E42-402A-9D47-2474E043CA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нтроль качества для красителей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55320" y="1066680"/>
            <a:ext cx="855972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яйте в зависимости от конкретного крас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известными микроорганизмами или клетк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образование кристаллов или осад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онтаминацию (бактерии или гриб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4" descr="hematol"/>
          <p:cNvPicPr/>
          <p:nvPr/>
        </p:nvPicPr>
        <p:blipFill>
          <a:blip r:embed="rId1"/>
          <a:stretch/>
        </p:blipFill>
        <p:spPr>
          <a:xfrm>
            <a:off x="609480" y="4267080"/>
            <a:ext cx="2743200" cy="19814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3505320" y="434340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ева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рашивание по Райту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рава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рашивание по Граму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1" name="Picture 6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5867280" y="4267080"/>
            <a:ext cx="2210040" cy="201960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1C97-8DC2-40BA-9AB1-545A984B8C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3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крашивание по Граму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0" y="50547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Verdana"/>
              </a:rPr>
              <a:t>Хорошее</a:t>
            </a: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Verdana"/>
              </a:rPr>
              <a:t>качеств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4419720" y="50547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лохое</a:t>
            </a: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B47E-C827-4B8C-8547-445DC52E22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9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К микробиологических сред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яйте рабочие характеристики всех сре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се парт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лько новую сер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7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9"/>
          <p:cNvSpPr/>
          <p:nvPr/>
        </p:nvSpPr>
        <p:spPr>
          <a:xfrm>
            <a:off x="3505320" y="3726000"/>
            <a:ext cx="236196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К агара МакКонки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ева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е ферментирующий лактозу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права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ерментирующий лактозу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E600-900C-4A82-910E-EB7F325981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збегать следующих проблем со средам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19" name="Group 28"/>
          <p:cNvGrpSpPr/>
          <p:nvPr/>
        </p:nvGrpSpPr>
        <p:grpSpPr>
          <a:xfrm>
            <a:off x="4876920" y="1295280"/>
            <a:ext cx="4190400" cy="1524240"/>
            <a:chOff x="4876920" y="1295280"/>
            <a:chExt cx="4190400" cy="1524240"/>
          </a:xfrm>
        </p:grpSpPr>
        <p:grpSp>
          <p:nvGrpSpPr>
            <p:cNvPr id="320" name="Group 7"/>
            <p:cNvGrpSpPr/>
            <p:nvPr/>
          </p:nvGrpSpPr>
          <p:grpSpPr>
            <a:xfrm>
              <a:off x="4876920" y="1295280"/>
              <a:ext cx="2514240" cy="914400"/>
              <a:chOff x="4876920" y="1295280"/>
              <a:chExt cx="2514240" cy="914400"/>
            </a:xfrm>
          </p:grpSpPr>
          <p:sp>
            <p:nvSpPr>
              <p:cNvPr id="321" name="AutoShape 8"/>
              <p:cNvSpPr/>
              <p:nvPr/>
            </p:nvSpPr>
            <p:spPr>
              <a:xfrm>
                <a:off x="4955400" y="1752480"/>
                <a:ext cx="2396520" cy="399960"/>
              </a:xfrm>
              <a:prstGeom prst="can">
                <a:avLst>
                  <a:gd name="adj" fmla="val 50000"/>
                </a:avLst>
              </a:prstGeom>
              <a:solidFill>
                <a:srgbClr val="ff260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AutoShape 9"/>
              <p:cNvSpPr/>
              <p:nvPr/>
            </p:nvSpPr>
            <p:spPr>
              <a:xfrm>
                <a:off x="4876920" y="1295280"/>
                <a:ext cx="2514240" cy="914400"/>
              </a:xfrm>
              <a:prstGeom prst="can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3" name="Group 10"/>
            <p:cNvGrpSpPr/>
            <p:nvPr/>
          </p:nvGrpSpPr>
          <p:grpSpPr>
            <a:xfrm>
              <a:off x="6553080" y="1905120"/>
              <a:ext cx="2514240" cy="914400"/>
              <a:chOff x="6553080" y="1905120"/>
              <a:chExt cx="2514240" cy="914400"/>
            </a:xfrm>
          </p:grpSpPr>
          <p:sp>
            <p:nvSpPr>
              <p:cNvPr id="324" name="AutoShape 11"/>
              <p:cNvSpPr/>
              <p:nvPr/>
            </p:nvSpPr>
            <p:spPr>
              <a:xfrm>
                <a:off x="6553080" y="2019240"/>
                <a:ext cx="2514240" cy="800280"/>
              </a:xfrm>
              <a:prstGeom prst="can">
                <a:avLst>
                  <a:gd name="adj" fmla="val 50000"/>
                </a:avLst>
              </a:prstGeom>
              <a:solidFill>
                <a:srgbClr val="ff260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325" name="Group 12"/>
              <p:cNvGrpSpPr/>
              <p:nvPr/>
            </p:nvGrpSpPr>
            <p:grpSpPr>
              <a:xfrm>
                <a:off x="7353000" y="2019240"/>
                <a:ext cx="456840" cy="199800"/>
                <a:chOff x="7353000" y="2019240"/>
                <a:chExt cx="456840" cy="199800"/>
              </a:xfrm>
            </p:grpSpPr>
            <p:sp>
              <p:nvSpPr>
                <p:cNvPr id="326" name="Oval 13"/>
                <p:cNvSpPr/>
                <p:nvPr/>
              </p:nvSpPr>
              <p:spPr>
                <a:xfrm>
                  <a:off x="7524360" y="2019240"/>
                  <a:ext cx="114120" cy="56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7" name="Oval 14"/>
                <p:cNvSpPr/>
                <p:nvPr/>
              </p:nvSpPr>
              <p:spPr>
                <a:xfrm>
                  <a:off x="7353000" y="2019240"/>
                  <a:ext cx="456840" cy="1998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8" name="Oval 15"/>
                <p:cNvSpPr/>
                <p:nvPr/>
              </p:nvSpPr>
              <p:spPr>
                <a:xfrm>
                  <a:off x="7381440" y="2019240"/>
                  <a:ext cx="399960" cy="1713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9" name="Oval 16"/>
                <p:cNvSpPr/>
                <p:nvPr/>
              </p:nvSpPr>
              <p:spPr>
                <a:xfrm>
                  <a:off x="7409880" y="2019240"/>
                  <a:ext cx="342720" cy="142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0" name="Oval 17"/>
                <p:cNvSpPr/>
                <p:nvPr/>
              </p:nvSpPr>
              <p:spPr>
                <a:xfrm>
                  <a:off x="7438680" y="2019240"/>
                  <a:ext cx="285480" cy="1141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1" name="Oval 18"/>
                <p:cNvSpPr/>
                <p:nvPr/>
              </p:nvSpPr>
              <p:spPr>
                <a:xfrm>
                  <a:off x="7467120" y="2019240"/>
                  <a:ext cx="228240" cy="85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24480" bIns="24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2" name="Oval 19"/>
                <p:cNvSpPr/>
                <p:nvPr/>
              </p:nvSpPr>
              <p:spPr>
                <a:xfrm>
                  <a:off x="7495560" y="2019240"/>
                  <a:ext cx="171360" cy="56880"/>
                </a:xfrm>
                <a:prstGeom prst="ellipse">
                  <a:avLst/>
                </a:prstGeom>
                <a:noFill/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33" name="AutoShape 20"/>
              <p:cNvSpPr/>
              <p:nvPr/>
            </p:nvSpPr>
            <p:spPr>
              <a:xfrm>
                <a:off x="6553080" y="1905120"/>
                <a:ext cx="2514240" cy="914400"/>
              </a:xfrm>
              <a:prstGeom prst="can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334" name="Group 21"/>
              <p:cNvGrpSpPr/>
              <p:nvPr/>
            </p:nvGrpSpPr>
            <p:grpSpPr>
              <a:xfrm>
                <a:off x="8295840" y="2076480"/>
                <a:ext cx="456840" cy="199800"/>
                <a:chOff x="8295840" y="2076480"/>
                <a:chExt cx="456840" cy="199800"/>
              </a:xfrm>
            </p:grpSpPr>
            <p:sp>
              <p:nvSpPr>
                <p:cNvPr id="335" name="Oval 22"/>
                <p:cNvSpPr/>
                <p:nvPr/>
              </p:nvSpPr>
              <p:spPr>
                <a:xfrm>
                  <a:off x="8467200" y="2076480"/>
                  <a:ext cx="114120" cy="56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6" name="Oval 23"/>
                <p:cNvSpPr/>
                <p:nvPr/>
              </p:nvSpPr>
              <p:spPr>
                <a:xfrm>
                  <a:off x="8295840" y="2076480"/>
                  <a:ext cx="456840" cy="1998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7" name="Oval 24"/>
                <p:cNvSpPr/>
                <p:nvPr/>
              </p:nvSpPr>
              <p:spPr>
                <a:xfrm>
                  <a:off x="8324280" y="2076480"/>
                  <a:ext cx="399960" cy="1713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8" name="Oval 25"/>
                <p:cNvSpPr/>
                <p:nvPr/>
              </p:nvSpPr>
              <p:spPr>
                <a:xfrm>
                  <a:off x="8352720" y="2076480"/>
                  <a:ext cx="342720" cy="142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9" name="Oval 26"/>
                <p:cNvSpPr/>
                <p:nvPr/>
              </p:nvSpPr>
              <p:spPr>
                <a:xfrm>
                  <a:off x="8381520" y="2076480"/>
                  <a:ext cx="285480" cy="1141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0" name="Oval 27"/>
                <p:cNvSpPr/>
                <p:nvPr/>
              </p:nvSpPr>
              <p:spPr>
                <a:xfrm>
                  <a:off x="8409960" y="2076480"/>
                  <a:ext cx="228240" cy="85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24480" bIns="24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1" name="Oval 28"/>
                <p:cNvSpPr/>
                <p:nvPr/>
              </p:nvSpPr>
              <p:spPr>
                <a:xfrm>
                  <a:off x="8438400" y="2076480"/>
                  <a:ext cx="171360" cy="56880"/>
                </a:xfrm>
                <a:prstGeom prst="ellipse">
                  <a:avLst/>
                </a:prstGeom>
                <a:noFill/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342" name="Text Box 32"/>
          <p:cNvSpPr/>
          <p:nvPr/>
        </p:nvSpPr>
        <p:spPr>
          <a:xfrm>
            <a:off x="836640" y="1695600"/>
            <a:ext cx="44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сохший агар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ированные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533520" y="3112920"/>
            <a:ext cx="8153280" cy="265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еловеческую кров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дует использовать, потому чт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ишком  большая вариация между сериями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 содержать ингибиторы, включая антибактериальны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нциальная биологическая опасность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имер, вирусы гепати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4" name="Picture 27" descr="bio_hazrd_red_blk_cdc"/>
          <p:cNvPicPr/>
          <p:nvPr/>
        </p:nvPicPr>
        <p:blipFill>
          <a:blip r:embed="rId1"/>
          <a:stretch/>
        </p:blipFill>
        <p:spPr>
          <a:xfrm>
            <a:off x="7023240" y="5432400"/>
            <a:ext cx="1143000" cy="892080"/>
          </a:xfrm>
          <a:prstGeom prst="rect">
            <a:avLst/>
          </a:prstGeom>
          <a:ln w="0">
            <a:noFill/>
          </a:ln>
        </p:spPr>
      </p:pic>
      <p:sp>
        <p:nvSpPr>
          <p:cNvPr id="345" name="Slide Number Placeholder 28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BD4E-7FE5-4C1B-B80B-7A77E3BD6C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Footer Placeholder 29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431280"/>
            <a:ext cx="8382240" cy="5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качества ростовых сред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8" name="Picture 3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457200" y="1184400"/>
            <a:ext cx="8153280" cy="506412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8"/>
          <p:cNvSpPr/>
          <p:nvPr/>
        </p:nvSpPr>
        <p:spPr>
          <a:xfrm>
            <a:off x="380880" y="1143000"/>
            <a:ext cx="838224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едите записи сред, приготовленных в лаборатории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писывайте в журнал для сре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р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териль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пособность поддерживать рост контрольных штаммов, биохимические реакции контрольных штаммов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та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еряйте каждую новую партию или серию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DAD2-6C4A-422E-872D-8A44991CDB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Footer Placeholder 5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495440"/>
            <a:ext cx="8407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ить встроенные и традиционные контро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использовать контрольные культуры для микробиологического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рименение процедур по контролю качества красителей, используемых в микроскопических исследовани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методы проверки характеристик микробиологических сре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6A4B-7DD4-4245-AA03-0EEB77C923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   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8305920" cy="41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енные анализы дают нечисловые результа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луколичественные анализы дают оценк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ведите программу КК для качественных и полуколичественных анализ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1741-CD5A-4D0C-B32D-A7A9A9F983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371240"/>
            <a:ext cx="83818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 КК соблюдаются ВСЕМИ сотруд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гда записывайте результаты КК и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сли результаты КК не приемлемы, то не выдавайте отчет с результатами анализов пациентов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A7D7-0BDC-40D7-86AE-D1113C1075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2252-71A7-437C-9DC9-69FC3E1000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6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6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9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1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9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0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0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1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1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1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1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1" lang="en-US" sz="9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420" name="Footer Placeholder 1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А провела культуральное исследование и идентифициро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негнойную палочк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меры контроля качества вы бы использовали, чтобы подтвердить, что микроорганизм был определен правильн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BE5D-8CF7-4BA7-A31B-AC7C118804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9181-650C-4469-A109-0B3A35BD52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20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1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47" name="Footer Placeholder 1"/>
          <p:cNvSpPr/>
          <p:nvPr/>
        </p:nvSpPr>
        <p:spPr>
          <a:xfrm>
            <a:off x="457200" y="6352920"/>
            <a:ext cx="54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чественные и полуколичественные исследования – Пример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90720" y="1676520"/>
            <a:ext cx="640080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кроскопические исследования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ст-полоски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рологические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кробиологические процедур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юбые реакции, которые дают нечисловой результ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990720" y="4495680"/>
            <a:ext cx="6572160" cy="1690560"/>
            <a:chOff x="990720" y="4495680"/>
            <a:chExt cx="6572160" cy="1690560"/>
          </a:xfrm>
        </p:grpSpPr>
        <p:pic>
          <p:nvPicPr>
            <p:cNvPr id="251" name="Picture 6" descr="micro"/>
            <p:cNvPicPr/>
            <p:nvPr/>
          </p:nvPicPr>
          <p:blipFill>
            <a:blip r:embed="rId1"/>
            <a:srcRect l="0" t="0" r="4400" b="1607"/>
            <a:stretch/>
          </p:blipFill>
          <p:spPr>
            <a:xfrm>
              <a:off x="5105520" y="4495680"/>
              <a:ext cx="2457360" cy="16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" descr="agglut"/>
            <p:cNvPicPr/>
            <p:nvPr/>
          </p:nvPicPr>
          <p:blipFill>
            <a:blip r:embed="rId2"/>
            <a:srcRect l="15272" t="17455" r="15272" b="14546"/>
            <a:stretch/>
          </p:blipFill>
          <p:spPr>
            <a:xfrm>
              <a:off x="2895840" y="4495680"/>
              <a:ext cx="22096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8" descr="http://www.academic.marist.edu/~jzmz/methods/wbcrbc.jpg"/>
            <p:cNvPicPr/>
            <p:nvPr/>
          </p:nvPicPr>
          <p:blipFill>
            <a:blip r:embed="rId3"/>
            <a:srcRect l="20336" t="0" r="0" b="0"/>
            <a:stretch/>
          </p:blipFill>
          <p:spPr>
            <a:xfrm>
              <a:off x="990720" y="4495680"/>
              <a:ext cx="1941480" cy="16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Slide Number Placeholder 7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00BF-5564-4449-A302-B35B8D0D82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Footer Placeholder 8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принцип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117440" y="1606680"/>
            <a:ext cx="71884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мпетентность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служивание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ьные материа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красителями, средами и реаг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де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03C5-EE96-408B-AE73-759C632852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териалы для контроля качеств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84280" y="1828440"/>
            <a:ext cx="840744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строенные контрол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ные материалы, имитирующие пробы пациент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ные микроорганизм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C5E9-A6CD-42C6-BD09-AB5256A803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35292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строенные контрол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9880" y="1599840"/>
            <a:ext cx="82551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троены в приспособление для проведения тес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ируются автоматически при выполнении тес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вают определенные аспекты работы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можно, не оценивают весь процесс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8077320" y="640440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5A77-9D6B-426E-9233-773259F088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35292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диционные контроли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1640" y="1887120"/>
            <a:ext cx="840744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ы с известными свой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итируют пробы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вают работу всей аналитической сист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8153280" y="640440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6305-2D6A-4182-A44D-6D1397682B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35292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2T09:19:44Z</dcterms:modified>
  <cp:revision>505</cp:revision>
  <dc:subject/>
  <dc:title>Slide 1</dc:title>
</cp:coreProperties>
</file>